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81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145320"/>
            <a:ext cx="82281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199880"/>
            <a:ext cx="4015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145320"/>
            <a:ext cx="4015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3145320"/>
            <a:ext cx="4015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2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199880"/>
            <a:ext cx="26492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199880"/>
            <a:ext cx="26492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145320"/>
            <a:ext cx="26492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3145320"/>
            <a:ext cx="26492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3145320"/>
            <a:ext cx="26492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81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81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520" y="1199880"/>
            <a:ext cx="4015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816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199880"/>
            <a:ext cx="4015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145320"/>
            <a:ext cx="4015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81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199880"/>
            <a:ext cx="4015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3520" y="3145320"/>
            <a:ext cx="4015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199880"/>
            <a:ext cx="4015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145320"/>
            <a:ext cx="82281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81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145320"/>
            <a:ext cx="82281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199880"/>
            <a:ext cx="4015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145320"/>
            <a:ext cx="4015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3520" y="3145320"/>
            <a:ext cx="4015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2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280" y="1199880"/>
            <a:ext cx="26492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1360" y="1199880"/>
            <a:ext cx="26492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145320"/>
            <a:ext cx="26492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280" y="3145320"/>
            <a:ext cx="26492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1360" y="3145320"/>
            <a:ext cx="26492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81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199880"/>
            <a:ext cx="4015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816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199880"/>
            <a:ext cx="4015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145320"/>
            <a:ext cx="4015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199880"/>
            <a:ext cx="4015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3145320"/>
            <a:ext cx="4015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199880"/>
            <a:ext cx="4015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145320"/>
            <a:ext cx="82281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4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2840040"/>
            <a:ext cx="77724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096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816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4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81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81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4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82560"/>
            <a:ext cx="7772400" cy="11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blime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840040"/>
            <a:ext cx="77724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e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4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e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36680" y="1389240"/>
            <a:ext cx="4572000" cy="3429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